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E6C-B07C-4880-9FE0-158F520E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797-1D92-471C-B76D-2DA85F35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89B-5850-4D74-8914-C6CE2858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F18-1A99-41DE-9DB5-BB6EC88D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5098-38DF-46C8-BF94-E5541AD9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70F5-9886-41E8-9BC7-21F5E63D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E609-3C7C-4036-882D-16E05390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9988-90E6-49DD-8A9C-AF7279AD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9A8F-CEE7-48B6-A18F-98299552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FF97-C04A-428D-880A-A60E1758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EA2E-71BF-4D79-B88B-8795174F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836-6ED6-4D69-9011-BD12AC2A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8061-226B-4DBD-A4F9-81F061E2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0656-C96F-4D54-8E41-2BDBD51F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FCC3-4C13-47CD-9D4B-B722C5CD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D23D-E4CC-4A5B-B524-19E5D76E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3A46-8BB0-4BFC-B051-608B75EA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669-CEF4-48CF-A2FA-77F8A212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5C1-5B6D-4C95-8D6D-61F1ECB9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1C2-617B-485C-82C7-42BB8A31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32A-A942-4AFA-B18B-50AAE9B2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67C-1259-43F6-BBF8-DA1BD901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19F-2DA4-4C45-BFFB-CCAF2444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3C5-1927-4C59-903F-2A4A9BF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A009-0395-43A5-93C4-6363B061B32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1B6F-3491-4085-A8E1-F092A19EEEA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569520"/>
            <a:ext cx="86374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Franz Kafka (1883-1924)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4091040" cy="453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"I think we ought to read only the kind of books that wound and stab us...We need the books that affect us like a disaster, that grieve us deeply, like the death of someone we loved more than ourselves, like being  banished into forests far from everyone, like a suicide. A book must be the axe for the frozen sea inside us."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" name="Picture 5" descr="C:\WINDOWS\Profiles\Daddy\Application Data\Microsoft\Media Catalog\kafka.jpg"/>
          <p:cNvPicPr/>
          <p:nvPr/>
        </p:nvPicPr>
        <p:blipFill>
          <a:blip r:embed="rId2"/>
          <a:stretch/>
        </p:blipFill>
        <p:spPr>
          <a:xfrm>
            <a:off x="5106960" y="1941480"/>
            <a:ext cx="2832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:\WINDOWS\Profiles\Daddy\Desktop\kafka\Styx.jpg"/>
          <p:cNvPicPr/>
          <p:nvPr/>
        </p:nvPicPr>
        <p:blipFill>
          <a:blip r:embed="rId2"/>
          <a:stretch/>
        </p:blipFill>
        <p:spPr>
          <a:xfrm>
            <a:off x="1600200" y="380880"/>
            <a:ext cx="6207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295280" y="60958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utiful World,” Rene Magrit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5" descr="C:\WINDOWS\Profiles\Daddy\Desktop\kafka\Rene_Magritte_Beautiful_world.jpg"/>
          <p:cNvPicPr/>
          <p:nvPr/>
        </p:nvPicPr>
        <p:blipFill>
          <a:blip r:embed="rId2"/>
          <a:stretch/>
        </p:blipFill>
        <p:spPr>
          <a:xfrm>
            <a:off x="2438280" y="380880"/>
            <a:ext cx="4098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295280" y="6095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uman Condition,” Rene Magrit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4" descr="C:\WINDOWS\Profiles\Daddy\Desktop\kafka\Rene_Magritte_Human_Condition.jpg"/>
          <p:cNvPicPr/>
          <p:nvPr/>
        </p:nvPicPr>
        <p:blipFill>
          <a:blip r:embed="rId2"/>
          <a:stretch/>
        </p:blipFill>
        <p:spPr>
          <a:xfrm>
            <a:off x="2590920" y="228600"/>
            <a:ext cx="4332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295280" y="62485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e Divisibility,” Yves Tangu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C:\WINDOWS\Profiles\Daddy\Desktop\kafka\Yves_Tanguy_Infinite_Divisibility.jpg"/>
          <p:cNvPicPr/>
          <p:nvPr/>
        </p:nvPicPr>
        <p:blipFill>
          <a:blip r:embed="rId2"/>
          <a:stretch/>
        </p:blipFill>
        <p:spPr>
          <a:xfrm>
            <a:off x="2133720" y="304920"/>
            <a:ext cx="49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4777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Existentialism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most significant philosophical movement of the 2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entury, EXISTENTIALISM is the belief that reality, in any meaningful sense, must be created through individual actions and choic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istentialism is the opposite of  “ESSENTIALISM,” or the belief that reality, meaning, and significance precede individual actions and choic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8680" y="2133720"/>
            <a:ext cx="820872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ssentialism: “To be is to do.”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xistentialism: “To do is to be.”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inatraism: “Do be do be do.”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4777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Non-Existence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81080"/>
            <a:ext cx="820872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 existentialists, failure to act in any meaningful way because a failure to exist. (Think Peer Gynt and the Buttonmoulder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ilure to act for oneself became a failure to define oneself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flessness,” usually seen as a virtue in essentialist thought, became literally the absence of a self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569520"/>
            <a:ext cx="86374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Kafka’s Life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German Jew in Prag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frustrated writer whose father forced him into a career as a bank cler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very little in his life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ft orders for all of his manuscripts to be destroyed when he di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s executor, disobeyed his orders and Kafka became famous after his dea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94560"/>
            <a:ext cx="863748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Kafkaesque”</a:t>
            </a:r>
            <a:br>
              <a:rPr sz="6600"/>
            </a:b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2590920"/>
            <a:ext cx="820872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tamorphosis: A traveling salesman is turned into a bug in the first sentence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Castle: A man named K. is summoned to work as a surveyor in a castle, but the castle’s bureaucracy prevents him from ever arriving at his destination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Trial: A man named Joseph K. is accused of a crime and forced to mount a defense, but he is never told what his supposed crime i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 situation in which someone is at the mercy of a collective logic that he or she does not understand and perceives to be comically absurd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569520"/>
            <a:ext cx="86374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Kafka: Three Movements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ressionism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rrealism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stentialism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385560"/>
            <a:ext cx="863748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rial"/>
              </a:rPr>
              <a:t>Expressionism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402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 artistic movement that held that art should represent the internal reality (usually painful) rather than attempting to recreate or reproduce external reality—which art can never d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5" descr="C:\WINDOWS\Profiles\Daddy\Application Data\Microsoft\Media Catalog\munch.scream.jpg"/>
          <p:cNvPicPr/>
          <p:nvPr/>
        </p:nvPicPr>
        <p:blipFill>
          <a:blip r:embed="rId2"/>
          <a:stretch/>
        </p:blipFill>
        <p:spPr>
          <a:xfrm>
            <a:off x="4932360" y="1941480"/>
            <a:ext cx="317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4777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Surrealism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156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 artistic movement that focused on  impossibilities and contradictions that suggested the subconscious reality of the dream world rather than the tangible reality of the physical worl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447920" y="62485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of Memory,” Salvador Da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4" descr="C:\WINDOWS\Profiles\Daddy\Desktop\kafka\Dali_persistence_of_memory_1931.jpg"/>
          <p:cNvPicPr/>
          <p:nvPr/>
        </p:nvPicPr>
        <p:blipFill>
          <a:blip r:embed="rId2"/>
          <a:stretch/>
        </p:blipFill>
        <p:spPr>
          <a:xfrm>
            <a:off x="838080" y="689040"/>
            <a:ext cx="739152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752480" y="6172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rucifiction,” Salvador Da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Picture 5" descr="C:\WINDOWS\Profiles\Daddy\Desktop\kafka\dali_crucifiction.jpg"/>
          <p:cNvPicPr/>
          <p:nvPr/>
        </p:nvPicPr>
        <p:blipFill>
          <a:blip r:embed="rId2"/>
          <a:stretch/>
        </p:blipFill>
        <p:spPr>
          <a:xfrm>
            <a:off x="2514600" y="457200"/>
            <a:ext cx="3497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95280" y="6095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e Blanche,” Rene Magrit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3" descr="C:\WINDOWS\Profiles\Daddy\Desktop\kafka\Rene_Magritte_Carte_Blanche.jpg"/>
          <p:cNvPicPr/>
          <p:nvPr/>
        </p:nvPicPr>
        <p:blipFill>
          <a:blip r:embed="rId2"/>
          <a:stretch/>
        </p:blipFill>
        <p:spPr>
          <a:xfrm>
            <a:off x="2438280" y="457200"/>
            <a:ext cx="3980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23:21:16Z</dcterms:created>
  <dc:creator>Michael and Karen Austin</dc:creator>
  <dc:description/>
  <dc:language>en-US</dc:language>
  <cp:lastModifiedBy>Sue Gregory</cp:lastModifiedBy>
  <cp:lastPrinted>2009-04-22T19:24:48Z</cp:lastPrinted>
  <dcterms:modified xsi:type="dcterms:W3CDTF">2008-05-01T05:08:42Z</dcterms:modified>
  <cp:revision>15</cp:revision>
  <dc:subject/>
  <dc:title>Franz Kafka (1883-1924)</dc:title>
</cp:coreProperties>
</file>